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C338-6580-43CB-95A2-F2E5353F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6AE-28CF-4A9E-8158-8F337611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751-B295-4C5E-9E43-9C2AF361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0BC1-BF15-4E3B-8F4A-9825AE89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79D8-B0B9-42A4-BB3B-39FD8C1C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637A-7484-40A4-9A82-FFE29B48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7472-A6E2-4563-97D0-A007E3FD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E142-6D5B-4626-9F20-814309E4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D120-C9EC-4176-8DB1-B7CEBDA1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97CB-37DB-4628-A3CB-11DE2A59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813E-B770-4166-B5C6-D9B3AEB3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92B-DEDC-4924-8C56-6B330E1C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DAA4-55A2-43A2-87E3-CE9D3D72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517F-96B5-4C12-BC35-245D0230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EBD5-A2AA-4D16-ABCC-87665A93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9A01-E8A5-4A6B-8834-DE2FB61F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416E-5986-4220-8A55-817F4A73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1D40-DCFB-4857-95E1-33F42D76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B28A-E582-4269-80FE-CCE2BE0D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B20-452E-4C48-AEA3-2CBAABA4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E430-BB7F-48BE-9E23-95986AA2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553E-B6F9-48BF-8929-F1344A5D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205-BF6B-4C6C-879E-7E8757F9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4A6-46B4-4314-A6FE-B2971EEF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0166-4B2B-4D1E-9F4B-6219A1DF601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65A3-84BA-475E-893A-8E14807814A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andora.com/" TargetMode="External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882520" y="28951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cript MT Bold"/>
              </a:rPr>
              <a:t>Jordan LaD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2895480"/>
            <a:ext cx="6032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cript MT Bold"/>
              </a:rPr>
              <a:t>Jordan La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59200" y="2895480"/>
            <a:ext cx="6032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cript MT Bold"/>
              </a:rPr>
              <a:t>Jordan La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8320" y="533520"/>
            <a:ext cx="382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LL ABOUT ME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5000">
    <p:blinds dir="vert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, “I m Good At…”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OTBA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ING FU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749160" y="152280"/>
            <a:ext cx="68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, “I m Good At…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, “I m Good At…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VING F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733920" y="175248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Draw screenshot"/>
          <p:cNvPicPr/>
          <p:nvPr/>
        </p:nvPicPr>
        <p:blipFill>
          <a:blip r:embed="rId2"/>
          <a:stretch/>
        </p:blipFill>
        <p:spPr>
          <a:xfrm>
            <a:off x="3809880" y="3276720"/>
            <a:ext cx="2133720" cy="155232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03d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y favorite websites include…”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WWW.PANDORA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.IMEEM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.AIRMP3.N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825480" y="6094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My favorite websites include…”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609480"/>
            <a:ext cx="68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y favorite websites include…”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vert"/>
    <p:sndAc>
      <p:stSnd>
        <p:snd r:embed="rId2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00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Favorite Food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MBURG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TDO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749160" y="152280"/>
            <a:ext cx="68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My Favorite Food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y Favorite Food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AMBUR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TD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SAGEN.at - MAUS IM BIG MÄC"/>
          <p:cNvPicPr/>
          <p:nvPr/>
        </p:nvPicPr>
        <p:blipFill>
          <a:blip r:embed="rId1"/>
          <a:stretch/>
        </p:blipFill>
        <p:spPr>
          <a:xfrm>
            <a:off x="6400800" y="1143000"/>
            <a:ext cx="1371600" cy="107964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  <p:sndAc>
      <p:stSnd>
        <p:snd r:embed="rId2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y Favorite Teachers are…..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S.RICH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S.WEB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S.HADLE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749160" y="457200"/>
            <a:ext cx="68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00b200"/>
                </a:solidFill>
                <a:latin typeface="Comic Sans MS"/>
              </a:rPr>
              <a:t>My Favorite Teachers are…..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45720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y Favorite Teachers are…..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13372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RS.RIC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RS.WE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RS.H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vert"/>
    <p:sndAc>
      <p:stSnd>
        <p:snd r:embed="rId1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b2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I could I would….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EATH UNDERWATE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 NFL FOR A NATIOL FOOTBALL TE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749160" y="152280"/>
            <a:ext cx="68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If I could I would….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f I could I would….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82880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REATH UNDER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Y NFL FOR A NATIOL FOOTBALL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vert"/>
    <p:sndAc>
      <p:stSnd>
        <p:snd r:embed="rId1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b8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 10 years I….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ct to have my own ho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uld have a bachelors'  degre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ing on my doctr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749160" y="152280"/>
            <a:ext cx="68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In 10 years I….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52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 10 years I….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pect to have my own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hould have a bachelors' 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orking on my doct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vert"/>
    <p:sndAc>
      <p:stSnd>
        <p:snd r:embed="rId1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Favorite artists and athletes are….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2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Script MT Bold"/>
              </a:rPr>
              <a:t>PEYTON MAN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2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Script MT Bold"/>
              </a:rPr>
              <a:t>MARVIN HARRIS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2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Script MT Bold"/>
              </a:rPr>
              <a:t>JOESEPH ADDI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22860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Comic Sans MS"/>
              </a:rPr>
              <a:t>My Favorite artists and athletes are…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22860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y Favorite artists and athletes are…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PEYTON M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MARVIN HAR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JOESEPH ADD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cript MT Bold"/>
              </a:rPr>
              <a:t>PEYTON M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cript MT Bold"/>
              </a:rPr>
              <a:t>MARVIN HAR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cript MT Bold"/>
              </a:rPr>
              <a:t>JOESEPH ADD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blinds dir="vert"/>
    <p:sndAc>
      <p:stSnd>
        <p:snd r:embed="rId1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657600" y="1523880"/>
            <a:ext cx="140976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en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advTm="5000">
    <p:blinds dir="vert"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5:22:57Z</dcterms:created>
  <dc:creator>766935</dc:creator>
  <dc:description/>
  <dc:language>en-US</dc:language>
  <cp:lastModifiedBy>766935</cp:lastModifiedBy>
  <dcterms:modified xsi:type="dcterms:W3CDTF">2008-11-03T16:53:58Z</dcterms:modified>
  <cp:revision>6</cp:revision>
  <dc:subject/>
  <dc:title>Slide 1</dc:title>
</cp:coreProperties>
</file>